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147175" cy="6861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7600" cy="686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5"/>
          </p:nvPr>
        </p:nvSpPr>
        <p:spPr>
          <a:xfrm>
            <a:off x="5181120" y="-360"/>
            <a:ext cx="39610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28555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39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6"/>
          </p:nvPr>
        </p:nvSpPr>
        <p:spPr>
          <a:xfrm>
            <a:off x="-360" y="6515280"/>
            <a:ext cx="3962520" cy="3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7"/>
          </p:nvPr>
        </p:nvSpPr>
        <p:spPr>
          <a:xfrm>
            <a:off x="5181120" y="6515280"/>
            <a:ext cx="3961080" cy="3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39FB-0948-4D81-B018-8CF3BA723133}" type="slidenum">
              <a:rPr b="1" lang="ru-RU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392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torial title: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Active stereop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blem to be tackl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sk 2.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volutional network for vergence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vergence control of mechatronic eye system, possibly conditioned with “atten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lex-like verg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: eye movements are simulated (off-line), develop a network to estimate vergence given fixation point (or range), given limited set of near- and far disparity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: retinocentric disparity map, vergence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: off-line using a simulator on-line with mechatronic ey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oluntary explo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: eye movements are simulated (off-line), train a convolutional network with an "attention" signal (locating and recognizing objects, from WP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: retinocentric disparity map, vergence signal in the presence of "attention"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: off-line using a simulator on-line with mechatronic ey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sk 2.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D description through interactive visual stereopsis 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/develop scanning strategies to accurately describe the 3D structure (or headcentric disparity) of a visual fragment by precise, near-tuned disparity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go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very accurate description, given disparity-detectors used are more precise than moto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ic developments to make transformation (from disparity to depth) robust to limited accuracy of motor system, e.g., insensitive to effects (on disparity) of small vergence/version errors (cf. Van Ee and Erkelens, 1996) vertical disparities will be exploited to obtain more accurate eye position information (Read and Cumming, 2006)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cessary backg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ise in computer and biological vision, cell and systems modeling, neural networks, self-organization and adaptive control, machin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39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7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reported in the minutes of the warm-up meeting, "the tutorials [T1, ..., T7] should be intended as detailed presentations (50 min) by each partn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47680">
              <a:buClr>
                <a:srgbClr val="b2b2b2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the problem 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47680">
              <a:buClr>
                <a:srgbClr val="b2b2b2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the necessary backgrou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47680">
              <a:buClr>
                <a:srgbClr val="b2b2b2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the approach one intends to follow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-247680">
              <a:buClr>
                <a:srgbClr val="b2b2b2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how the approach (and expected results) fits with other project's components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4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ce, I expect they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ll be given by WP lead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/or their collabor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8558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39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utorial title: </a:t>
            </a:r>
            <a:r>
              <a:rPr b="1" i="1" lang="en-US" sz="900" spc="-1" strike="noStrike">
                <a:solidFill>
                  <a:srgbClr val="000000"/>
                </a:solidFill>
                <a:latin typeface="Times New Roman"/>
              </a:rPr>
              <a:t>Active stereops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blem to be tackle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ask 2.1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Convolutional network for vergence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 vergence control of mechatronic eye system, possibly conditioned with “attention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flex-like vergenc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ystem: eye movements are simulated (off-line), develop a network to estimate vergence given fixation point (or range), given limited set of near- and far disparity det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: retinocentric disparity map, vergence sig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velopment: off-line using a simulator on-line with mechatronic ey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voluntary explorati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ystem: eye movements are simulated (off-line), train a convolutional network with an "attention" signal (locating and recognizing objects, from WP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: retinocentric disparity map, vergence signal in the presence of "attention" sig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evelopment: off-line using a simulator on-line with mechatronic eye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---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ask 2.2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3D description through interactive visual stereopsis adap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lore/develop scanning strategies to accurately describe the 3D structure (or headcentric disparity) of a visual fragment by precise, near-tuned disparity det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ubgo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tain a very accurate description, given disparity-detectors used are more precise than motor 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lgorithmic developments to make transformation (from disparity to depth) robust to limited accuracy of motor system, e.g., insensitive to effects (on disparity) of small vergence/version errors (cf. Van Ee and Erkelens, 1996) vertical disparities will be exploited to obtain more accurate eye position information (Read and Cumming, 2006)----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ecessary backgroun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ertise in computer and biological vision, cell and systems modeling, neural networks, self-organization and adaptive control, machine lear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7D30E-74FE-463D-81D6-84E39838BC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" y="41644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C3A6-A5FD-42E2-AC97-1C6247F8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9000" y="12189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240" y="41644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9000" y="41644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EA87-7B6A-486B-8A3B-4699CE1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86600" y="12189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240" y="41644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94920" y="41644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86600" y="41644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05C65-0221-4A13-95EB-F3E1412154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98CE0-A504-40A0-92BD-82392F08FE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24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A1169-780C-49E8-BBB6-D3250E0A9B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F2A15-48E6-45CB-8D26-DF39D558CC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9000" y="12189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FAFC9-6B23-41C0-AA26-F0B669094E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0267B-EB63-46FB-97DF-D8BB5B15ED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1140E-F050-46B0-86D5-EC529288FB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9000" y="12189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40" y="41644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C5B55-6F57-48BE-8557-E0015DB80E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24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6AE45-386A-4B76-B880-5AE3D153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9000" y="12189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9000" y="41644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CFABA-9259-4478-B050-E829DB9BB3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9000" y="12189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240" y="41644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B53D1-EB3C-4177-899A-055862031B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40" y="41644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299EA-E2ED-4FCF-BCF4-81AE4769D6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9000" y="12189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240" y="41644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89000" y="41644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42264-9EB1-4D14-9843-5FC664003E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86600" y="12189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240" y="41644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094920" y="41644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86600" y="41644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1D9BE-7A05-4CF6-9389-AB71009941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058A-68EC-401A-BFAB-129AD70D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9000" y="12189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8DFD-C8CF-4069-A311-2173D157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CE5E-C7E7-4289-9068-877F2EF0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1DBD-29E2-4540-92D7-7C9F720D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9000" y="12189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" y="41644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A85D-CAAD-4C56-BFFD-6DCDBFCA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9000" y="12189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9000" y="41644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F89E-0085-4961-B7C2-3BC267EC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" y="12189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9000" y="12189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" y="41644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067BD-2078-488F-A6C5-E333545B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8229600" y="-36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2"/>
          </p:nvPr>
        </p:nvSpPr>
        <p:spPr>
          <a:xfrm>
            <a:off x="838152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8264-9A5C-4884-8652-6C666DF470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24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8748720" y="9360"/>
            <a:ext cx="360360" cy="6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ftr" idx="3"/>
          </p:nvPr>
        </p:nvSpPr>
        <p:spPr>
          <a:xfrm>
            <a:off x="22096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979D-4A2F-4EED-9A57-245207100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274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ahoma"/>
              </a:rPr>
              <a:t>T2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 Active stereopsis</a:t>
            </a:r>
            <a:br>
              <a:rPr sz="4800"/>
            </a:br>
            <a:br>
              <a:rPr sz="1000"/>
            </a:br>
            <a:r>
              <a:rPr b="1" lang="en-US" sz="2800" spc="-1" strike="noStrike">
                <a:solidFill>
                  <a:srgbClr val="ffcc99"/>
                </a:solidFill>
                <a:latin typeface="Tahoma"/>
              </a:rPr>
              <a:t>Task 2.1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Network Paradigm for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lligent Vergence Control</a:t>
            </a:r>
            <a:br>
              <a:rPr sz="2800"/>
            </a:br>
            <a:br>
              <a:rPr sz="800"/>
            </a:br>
            <a:r>
              <a:rPr b="1" lang="nl-BE" sz="2800" spc="-1" strike="noStrike">
                <a:solidFill>
                  <a:srgbClr val="ffcc99"/>
                </a:solidFill>
                <a:latin typeface="Tahoma"/>
              </a:rPr>
              <a:t>Task 2.2</a:t>
            </a:r>
            <a:r>
              <a:rPr b="1" lang="nl-BE" sz="28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3D description through interactive visual stereopsis adaptation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89640" y="355680"/>
            <a:ext cx="229608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8f8f8"/>
                </a:solidFill>
                <a:latin typeface="Arial"/>
              </a:rPr>
              <a:t>KATHOLIEKE</a:t>
            </a:r>
            <a:r>
              <a:rPr b="0" lang="en-US" sz="13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ru-RU" sz="1300" spc="-1" strike="noStrike">
                <a:solidFill>
                  <a:srgbClr val="f8f8f8"/>
                </a:solidFill>
                <a:latin typeface="Arial"/>
              </a:rPr>
              <a:t>UNIVERSITEIT</a:t>
            </a:r>
            <a:br>
              <a:rPr sz="1300"/>
            </a:br>
            <a:r>
              <a:rPr b="1" lang="ru-RU" sz="4000" spc="-1" strike="noStrike">
                <a:solidFill>
                  <a:srgbClr val="f8f8f8"/>
                </a:solidFill>
                <a:latin typeface="Arial Black"/>
              </a:rPr>
              <a:t>L</a:t>
            </a: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EUV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28600"/>
            <a:ext cx="5562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dddd"/>
                </a:solidFill>
                <a:latin typeface="Tahoma"/>
              </a:rPr>
              <a:t>Laboratorium voor Neuro- en Psychofysiolog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dddd"/>
                </a:solidFill>
                <a:latin typeface="Tahoma"/>
              </a:rPr>
              <a:t>Computational Neuroscience Research Gro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7360" y="5950080"/>
            <a:ext cx="899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ddddd"/>
                </a:solidFill>
                <a:latin typeface="Tahoma"/>
              </a:rPr>
              <a:t>07-08</a:t>
            </a: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dddddd"/>
                </a:solidFill>
                <a:latin typeface="Tahoma"/>
              </a:rPr>
              <a:t>March 20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ahoma"/>
              </a:rPr>
              <a:t>EYESHOTS project, Kick-off mee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ahoma"/>
              </a:rPr>
              <a:t>Bologna, Ita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5084640"/>
            <a:ext cx="3267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c M. Van Hull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ikolay Chumeri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arl Pauw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320" y="44280"/>
            <a:ext cx="8506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onvolutional Networks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82520" y="15573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00"/>
                </a:solidFill>
                <a:latin typeface="Tahoma"/>
              </a:rPr>
              <a:t>Modified LeNet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606096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Y. LeCun, L. Bottou, Y. Bengio, and P. Haffner. 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Gradient-based learning applied to document recogni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Proceedings of the IEE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 November 1998.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06200" y="2517840"/>
            <a:ext cx="9037800" cy="2769120"/>
            <a:chOff x="106200" y="2517840"/>
            <a:chExt cx="9037800" cy="2769120"/>
          </a:xfrm>
        </p:grpSpPr>
        <p:sp>
          <p:nvSpPr>
            <p:cNvPr id="174" name=""/>
            <p:cNvSpPr/>
            <p:nvPr/>
          </p:nvSpPr>
          <p:spPr>
            <a:xfrm>
              <a:off x="106200" y="3141720"/>
              <a:ext cx="1079640" cy="10792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9280" y="2517840"/>
              <a:ext cx="100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64</a:t>
              </a: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×</a:t>
              </a: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6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200" y="3716280"/>
              <a:ext cx="269640" cy="270000"/>
            </a:xfrm>
            <a:prstGeom prst="rect">
              <a:avLst/>
            </a:prstGeom>
            <a:solidFill>
              <a:srgbClr val="ccffcc">
                <a:alpha val="40000"/>
              </a:srgbClr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03280" y="2854440"/>
              <a:ext cx="1006560" cy="100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47640" y="2998800"/>
              <a:ext cx="1006560" cy="100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92360" y="3141720"/>
              <a:ext cx="1006560" cy="100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36720" y="3286080"/>
              <a:ext cx="1006560" cy="100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79640" y="3429000"/>
              <a:ext cx="1006560" cy="100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24000" y="3573360"/>
              <a:ext cx="1006560" cy="100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42920" y="3860640"/>
              <a:ext cx="1800360" cy="4320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58920" y="2517840"/>
              <a:ext cx="14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6</a:t>
              </a: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0×</a:t>
              </a: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6</a:t>
              </a: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0×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280" y="4280040"/>
              <a:ext cx="36360" cy="3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71640" y="4678200"/>
              <a:ext cx="100800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-</a:t>
              </a: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layer</a:t>
              </a:r>
              <a:br>
                <a:rPr sz="1600"/>
              </a:br>
              <a:r>
                <a:rPr b="1" lang="en-US" sz="1200" spc="-1" strike="noStrike">
                  <a:solidFill>
                    <a:srgbClr val="ffff00"/>
                  </a:solidFill>
                  <a:latin typeface="Tahoma"/>
                </a:rPr>
                <a:t>10</a:t>
              </a: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ffff00"/>
                  </a:solidFill>
                  <a:latin typeface="Tahoma"/>
                </a:rPr>
                <a:t>kernels (5×5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6880" y="34574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5×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90760" y="3068640"/>
              <a:ext cx="503280" cy="5032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35480" y="3213000"/>
              <a:ext cx="503280" cy="5032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78400" y="3357720"/>
              <a:ext cx="502920" cy="5029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2760" y="3502080"/>
              <a:ext cx="503280" cy="5032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67120" y="3645000"/>
              <a:ext cx="503280" cy="5032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11480" y="3789360"/>
              <a:ext cx="503280" cy="5032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16360" y="2517840"/>
              <a:ext cx="14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30×30×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0920" y="353844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2×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68360" y="3787920"/>
              <a:ext cx="193680" cy="193680"/>
            </a:xfrm>
            <a:prstGeom prst="rect">
              <a:avLst/>
            </a:prstGeom>
            <a:solidFill>
              <a:srgbClr val="ccffcc">
                <a:alpha val="40000"/>
              </a:srgbClr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33880" y="3876840"/>
              <a:ext cx="36360" cy="3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84360" y="3860640"/>
              <a:ext cx="1612800" cy="2880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3640" y="4678200"/>
              <a:ext cx="93672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S</a:t>
              </a: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-</a:t>
              </a: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layer</a:t>
              </a:r>
              <a:br>
                <a:rPr sz="1600"/>
              </a:br>
              <a:r>
                <a:rPr b="1" lang="en-US" sz="1200" spc="-1" strike="noStrike">
                  <a:solidFill>
                    <a:srgbClr val="ffff00"/>
                  </a:solidFill>
                  <a:latin typeface="Tahoma"/>
                </a:rPr>
                <a:t>(2×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11640" y="2517840"/>
              <a:ext cx="14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26×26×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27480" y="4005360"/>
              <a:ext cx="198360" cy="198360"/>
            </a:xfrm>
            <a:prstGeom prst="rect">
              <a:avLst/>
            </a:prstGeom>
            <a:solidFill>
              <a:srgbClr val="ccffcc">
                <a:alpha val="40000"/>
              </a:srgbClr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08640" y="2924280"/>
              <a:ext cx="431640" cy="431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0" y="2995560"/>
              <a:ext cx="431640" cy="432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45080" y="3068640"/>
              <a:ext cx="431640" cy="431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16360" y="3139920"/>
              <a:ext cx="432000" cy="432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88000" y="3211560"/>
              <a:ext cx="431640" cy="431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59280" y="3282840"/>
              <a:ext cx="432000" cy="432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32360" y="3355920"/>
              <a:ext cx="431640" cy="432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03640" y="3427560"/>
              <a:ext cx="432000" cy="431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76720" y="3500280"/>
              <a:ext cx="432000" cy="432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48360" y="3571920"/>
              <a:ext cx="431640" cy="431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21440" y="3645000"/>
              <a:ext cx="431640" cy="431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92720" y="3716280"/>
              <a:ext cx="431640" cy="432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64000" y="3787920"/>
              <a:ext cx="432000" cy="431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35640" y="3859200"/>
              <a:ext cx="431640" cy="431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08720" y="3932280"/>
              <a:ext cx="431640" cy="43164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80000" y="4003560"/>
              <a:ext cx="432000" cy="432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27640" y="4149720"/>
              <a:ext cx="1433520" cy="1587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92840" y="4299120"/>
              <a:ext cx="36360" cy="36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5400000"/>
            </a:gra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27640" y="4678200"/>
              <a:ext cx="115236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-</a:t>
              </a: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layer</a:t>
              </a:r>
              <a:br>
                <a:rPr sz="1600"/>
              </a:b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6</a:t>
              </a:r>
              <a:r>
                <a:rPr b="1" lang="en-US" sz="1200" spc="-1" strike="noStrike">
                  <a:solidFill>
                    <a:srgbClr val="ffff00"/>
                  </a:solidFill>
                  <a:latin typeface="Tahoma"/>
                </a:rPr>
                <a:t>4</a:t>
              </a: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ffff00"/>
                  </a:solidFill>
                  <a:latin typeface="Tahoma"/>
                </a:rPr>
                <a:t>kernels (5×5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53240" y="3054240"/>
              <a:ext cx="30132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25960" y="312732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97600" y="319716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70680" y="327024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68880" y="327168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41960" y="334476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3600" y="341460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286680" y="3487680"/>
              <a:ext cx="30132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57960" y="3559320"/>
              <a:ext cx="301680" cy="3013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29240" y="363060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02320" y="370368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73960" y="377352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47040" y="3846600"/>
              <a:ext cx="30132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45240" y="384804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18320" y="392112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89600" y="399096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62680" y="406404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34320" y="4135320"/>
              <a:ext cx="301680" cy="3016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12000" y="4678200"/>
              <a:ext cx="10080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S</a:t>
              </a: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-</a:t>
              </a: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layer:</a:t>
              </a:r>
              <a:br>
                <a:rPr sz="1600"/>
              </a:br>
              <a:r>
                <a:rPr b="1" lang="en-US" sz="1200" spc="-1" strike="noStrike">
                  <a:solidFill>
                    <a:srgbClr val="ffff00"/>
                  </a:solidFill>
                  <a:latin typeface="Tahoma"/>
                </a:rPr>
                <a:t>(2×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867280" y="3787920"/>
              <a:ext cx="362160" cy="144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08720" y="25178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13×13×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948360" y="2997360"/>
              <a:ext cx="1479240" cy="1476360"/>
              <a:chOff x="6948360" y="2997360"/>
              <a:chExt cx="1479240" cy="147636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948360" y="2997360"/>
                <a:ext cx="1476360" cy="1476360"/>
                <a:chOff x="6948360" y="2997360"/>
                <a:chExt cx="1476360" cy="14763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948360" y="2997360"/>
                  <a:ext cx="107640" cy="108000"/>
                </a:xfrm>
                <a:prstGeom prst="rect">
                  <a:avLst/>
                </a:prstGeom>
                <a:solidFill>
                  <a:srgbClr val="339966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003800" y="3053160"/>
                  <a:ext cx="1368360" cy="1368360"/>
                </a:xfrm>
                <a:prstGeom prst="line">
                  <a:avLst/>
                </a:prstGeom>
                <a:ln w="13968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8316720" y="4365720"/>
                  <a:ext cx="108000" cy="108000"/>
                </a:xfrm>
                <a:prstGeom prst="rect">
                  <a:avLst/>
                </a:prstGeom>
                <a:solidFill>
                  <a:srgbClr val="339966"/>
                </a:solidFill>
                <a:ln w="1260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6948360" y="3100680"/>
                <a:ext cx="1368360" cy="1368360"/>
              </a:xfrm>
              <a:prstGeom prst="line">
                <a:avLst/>
              </a:prstGeom>
              <a:ln w="1260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59240" y="2997360"/>
                <a:ext cx="1368360" cy="1368360"/>
              </a:xfrm>
              <a:prstGeom prst="line">
                <a:avLst/>
              </a:prstGeom>
              <a:ln w="1260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948360" y="2997360"/>
                <a:ext cx="1368360" cy="1368360"/>
              </a:xfrm>
              <a:prstGeom prst="line">
                <a:avLst/>
              </a:prstGeom>
              <a:ln w="1260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6948360" y="251784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×1×18</a:t>
              </a: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1880" y="3200400"/>
              <a:ext cx="108000" cy="108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34520" y="3352680"/>
              <a:ext cx="108000" cy="108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20000" y="3789360"/>
              <a:ext cx="431640" cy="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885080" y="3573000"/>
              <a:ext cx="432000" cy="14292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72360" y="251784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ffff00"/>
                  </a:solidFill>
                  <a:latin typeface="Tahoma"/>
                </a:rPr>
                <a:t>×1×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64360" y="4678200"/>
              <a:ext cx="107964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C</a:t>
              </a: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-</a:t>
              </a: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layer:</a:t>
              </a:r>
              <a:br>
                <a:rPr sz="1600"/>
              </a:br>
              <a:r>
                <a:rPr b="1" lang="en-US" sz="1200" spc="-1" strike="noStrike">
                  <a:solidFill>
                    <a:srgbClr val="ffff00"/>
                  </a:solidFill>
                  <a:latin typeface="Tahoma"/>
                </a:rPr>
                <a:t>2880</a:t>
              </a:r>
              <a:r>
                <a:rPr b="1" lang="ru-RU" sz="1200" spc="-1" strike="noStrike">
                  <a:solidFill>
                    <a:srgbClr val="ffff00"/>
                  </a:solidFill>
                  <a:latin typeface="Tahoma"/>
                </a:rPr>
                <a:t> </a:t>
              </a:r>
              <a:r>
                <a:rPr b="1" lang="en-US" sz="1200" spc="-1" strike="noStrike">
                  <a:solidFill>
                    <a:srgbClr val="ffff00"/>
                  </a:solidFill>
                  <a:latin typeface="Tahoma"/>
                </a:rPr>
                <a:t>kernels (13×13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17080" y="4678200"/>
              <a:ext cx="82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F</a:t>
              </a: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-</a:t>
              </a: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58240" y="2895480"/>
              <a:ext cx="108000" cy="108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29600" y="3048120"/>
              <a:ext cx="108000" cy="108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86800" y="3505320"/>
              <a:ext cx="108000" cy="108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839080" y="3657600"/>
              <a:ext cx="108000" cy="108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991720" y="3809880"/>
              <a:ext cx="108000" cy="108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Vergence Strategies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General purpose strate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ims to maximize the total activity of the retinocentric map of ‘C-cell’ disparity detectors in as few vergence steps as possible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ing from a fixation point and an initial vergence, we have a ‘basic’ disparity cells activity patt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network outputs a new vergence estimate that, when applied increases this activity pattern, which produces a new vergence estimate, etc., until converge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pecific for object detection strate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op-down signal that binds the visual fragments based on attention/selection indicates which descriptors of the fragment are most conspicuou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ctivity pattern of these descriptors is maximized by iterating on the vergence much as in the previous general purpose strateg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Vergence Network Types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eflex-like verg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“attention” input sig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steps of network developm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ining pha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ye movements are simulated, current vergence as additional input, output disparity detectors tuning is constraint to a limited number of detec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ing pha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n real robot eye setup, looking on effect of learning at different levels of the network architect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Voluntary explo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ra input signal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tten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oming from the saliency map developed in WP3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List of deliverables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10666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2.1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volutional network for vergence contro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echnical report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onth 18, preliminary report, Month 30 final repo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2.2a</a:t>
            </a: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Algorithm for 3D scene description through interactive visual stereopsis adaptation using a conventional binocular vision platform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b2b2b2"/>
                </a:solidFill>
                <a:latin typeface="Arial"/>
              </a:rPr>
              <a:t>Software module.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(Month 2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D2.2b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Algorithm for 3D scene description through interactive visual stereopsis adaptation using the mechatronic system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b2b2b2"/>
                </a:solidFill>
                <a:latin typeface="Arial"/>
              </a:rPr>
              <a:t>Technical report and Demonstrator.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(Month 36)</a:t>
            </a: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Simulator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907920"/>
            <a:ext cx="84247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order to “dive into the problem” we have developed a simulator which consist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botic head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vironmen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y-tracing render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ications of the simulat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tabase of scenes and high quality synthetic stereo images for further off-line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cise estimates of the horizontal and vertical disparities, optical 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-line modeling and training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Robotic head model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126828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odel of the robotic head has been developed. In the model one can precisely control all important paramet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15776" r="0" b="0"/>
          <a:stretch/>
        </p:blipFill>
        <p:spPr>
          <a:xfrm>
            <a:off x="6156360" y="3701880"/>
            <a:ext cx="2736720" cy="1814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012000" y="1181160"/>
            <a:ext cx="2881080" cy="2266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55640" y="3244680"/>
            <a:ext cx="5184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d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d orientation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which includes gaze dire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ergence of the “eyes”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by means of vergence angle or distance to the fixation poi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d so 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527120" y="1600200"/>
            <a:ext cx="6095880" cy="4876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Environment model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Ray-tracing rendering engine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79280" y="1268280"/>
            <a:ext cx="87138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existing ray tracers do not give access to internal data we have developed our own ray-tracing engine in MATLAB environ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ngine allows to obta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gh-quality “eye views”: synthetic images (textures, lights, anti-alias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cise horizontal and vertical dispa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8756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cise optical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Ray-tracing rendering engine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527120" y="160020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80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Disparity revelations…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1268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ertical disparit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eakly depends on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cene structu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cept for some extreme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rcRect l="-14" t="4603" r="50175" b="37721"/>
          <a:stretch/>
        </p:blipFill>
        <p:spPr>
          <a:xfrm>
            <a:off x="468360" y="2924280"/>
            <a:ext cx="3816360" cy="3531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rcRect l="74755" t="5093" r="0" b="60786"/>
          <a:stretch/>
        </p:blipFill>
        <p:spPr>
          <a:xfrm>
            <a:off x="5003640" y="2924280"/>
            <a:ext cx="3637080" cy="3933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148360" y="2637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tical dispa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27640" y="3860640"/>
            <a:ext cx="1297080" cy="1008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84720" y="2276640"/>
            <a:ext cx="2087640" cy="165708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Overview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4484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asks descripti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roposed approach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74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mulator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324000" y="-1684440"/>
            <a:ext cx="9866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Disparity revelations…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1268280"/>
            <a:ext cx="410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one case, when vertical disparity is almost zero and does not depend on the scene is the case of zero-verged eyes with gaze direction orthogonal to the base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0" t="15776" r="0" b="0"/>
          <a:stretch/>
        </p:blipFill>
        <p:spPr>
          <a:xfrm>
            <a:off x="576360" y="4782960"/>
            <a:ext cx="2843280" cy="1886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rcRect l="9399" t="3461" r="6612" b="1552"/>
          <a:stretch/>
        </p:blipFill>
        <p:spPr>
          <a:xfrm>
            <a:off x="4643280" y="1316160"/>
            <a:ext cx="4248360" cy="38448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244000" y="4916520"/>
            <a:ext cx="504720" cy="36036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03640" y="5780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= almost z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812000" y="5276520"/>
            <a:ext cx="576360" cy="57636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527120" y="1600200"/>
            <a:ext cx="6095880" cy="4876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Simple disparity-based vergence technique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Task 2.1 description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22200" y="836640"/>
            <a:ext cx="8497800" cy="54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ain go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a model of vergence control of mechatronic eye system, possibly conditioned with “atten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s of population of disparity dete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ntion” sig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gence control sig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ed sparse co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ed control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218960"/>
            <a:ext cx="8785440" cy="59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Main 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ore/develop scanning strategies to accurately describe the 3D structure (or headcentric disparity) of a visual fragment by precise disparity det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ubgo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transformation (from disparity to depth) robust to limited accuracy of motor system, e.g., insensitive to effects (on disparity) of small vergence/version errors (cf. Van Ee and Erkelens, 199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very accurate fragment description, given disparity-detectors used are more precise than motor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Task 2.2 description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920" y="1219320"/>
            <a:ext cx="7561440" cy="54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tise in computer and biological vision, cell and systems modeling, neural networks, self-organization and adaptive control, machin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Necessary background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230480"/>
            <a:ext cx="914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p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d” is fixed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orientation is fixed, baseline is constan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ze direction is fixed in 3-D</a:t>
            </a:r>
            <a:br>
              <a:rPr sz="28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on the object, which is not necessary at the fixation point y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11280" y="3357720"/>
            <a:ext cx="4197600" cy="33591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Task 2.1 description</a:t>
            </a:r>
            <a:br>
              <a:rPr sz="4000"/>
            </a:b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6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407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fixed head and its gaze direction vergence has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n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egree of freedom, and though could be controlled by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n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met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Task 2.1 description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95280" y="2997360"/>
            <a:ext cx="2881080" cy="2296800"/>
            <a:chOff x="395280" y="2997360"/>
            <a:chExt cx="2881080" cy="229680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395280" y="2997360"/>
              <a:ext cx="288108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877760" y="4079880"/>
              <a:ext cx="360360" cy="11523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08240" y="522288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33480" y="4021200"/>
              <a:ext cx="71280" cy="712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651640" y="2997360"/>
            <a:ext cx="2881080" cy="2293920"/>
            <a:chOff x="5651640" y="2997360"/>
            <a:chExt cx="2881080" cy="2293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651640" y="2997360"/>
              <a:ext cx="288108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467480" y="521964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07120" y="4046400"/>
              <a:ext cx="71640" cy="716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07280" y="4941720"/>
              <a:ext cx="282600" cy="123840"/>
            </a:xfrm>
            <a:custGeom>
              <a:avLst/>
              <a:gdLst/>
              <a:ahLst/>
              <a:rect l="l" t="t" r="r" b="b"/>
              <a:pathLst>
                <a:path w="178" h="78">
                  <a:moveTo>
                    <a:pt x="0" y="78"/>
                  </a:moveTo>
                  <a:cubicBezTo>
                    <a:pt x="48" y="18"/>
                    <a:pt x="104" y="0"/>
                    <a:pt x="178" y="38"/>
                  </a:cubicBezTo>
                </a:path>
              </a:pathLst>
            </a:custGeom>
            <a:noFill/>
            <a:ln w="38160">
              <a:solidFill>
                <a:srgbClr val="ffff99"/>
              </a:solidFill>
              <a:round/>
              <a:headEnd len="sm" type="stealth" w="sm"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5640" y="386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58972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ergence ang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7080" y="5445000"/>
            <a:ext cx="29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ance to the fixation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ahoma"/>
              </a:rPr>
              <a:t>Proposed model</a:t>
            </a:r>
            <a:endParaRPr b="1" lang="en-US" sz="40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637080" y="907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2720" y="2490840"/>
            <a:ext cx="4465440" cy="5778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50000">
                <a:srgbClr val="214387"/>
              </a:gs>
              <a:gs pos="100000">
                <a:srgbClr val="3366cc"/>
              </a:gs>
            </a:gsLst>
            <a:lin ang="5400000"/>
          </a:gra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-cells bank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(3D band-pass Gabor-like channe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2720" y="3705120"/>
            <a:ext cx="2158920" cy="10080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002e00"/>
              </a:gs>
              <a:gs pos="100000">
                <a:srgbClr val="006600"/>
              </a:gs>
            </a:gsLst>
            <a:lin ang="5400000"/>
          </a:gra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-cell disparity det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86160" y="3705120"/>
            <a:ext cx="2158920" cy="101916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50000">
                <a:srgbClr val="4d004d"/>
              </a:gs>
              <a:gs pos="100000">
                <a:srgbClr val="660066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isparity-based feature det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2720" y="5156280"/>
            <a:ext cx="4392360" cy="100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664422"/>
              </a:gs>
              <a:gs pos="100000">
                <a:srgbClr val="996633"/>
              </a:gs>
            </a:gsLst>
            <a:lin ang="54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nvolutional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2"/>
          </p:cNvCxnSpPr>
          <p:nvPr/>
        </p:nvCxnSpPr>
        <p:spPr>
          <a:xfrm flipV="1" rot="16200000">
            <a:off x="1539360" y="3454200"/>
            <a:ext cx="4447080" cy="973800"/>
          </a:xfrm>
          <a:prstGeom prst="bentConnector4">
            <a:avLst>
              <a:gd name="adj1" fmla="val -5100"/>
              <a:gd name="adj2" fmla="val 402588"/>
            </a:avLst>
          </a:prstGeom>
          <a:ln w="50760">
            <a:solidFill>
              <a:srgbClr val="ffff99"/>
            </a:solidFill>
            <a:prstDash val="sysDot"/>
            <a:miter/>
            <a:tailEnd len="med" type="triangle" w="med"/>
          </a:ln>
        </p:spPr>
      </p:cxnSp>
      <p:cxnSp>
        <p:nvCxnSpPr>
          <p:cNvPr id="148" name=""/>
          <p:cNvCxnSpPr>
            <a:stCxn id="149" idx="2"/>
            <a:endCxn id="143" idx="0"/>
          </p:cNvCxnSpPr>
          <p:nvPr/>
        </p:nvCxnSpPr>
        <p:spPr>
          <a:xfrm flipH="1" rot="16200000">
            <a:off x="4125960" y="2330280"/>
            <a:ext cx="319680" cy="2160"/>
          </a:xfrm>
          <a:prstGeom prst="bentConnector3">
            <a:avLst>
              <a:gd name="adj1" fmla="val 49718"/>
            </a:avLst>
          </a:prstGeom>
          <a:ln w="507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3" idx="2"/>
            <a:endCxn id="144" idx="0"/>
          </p:cNvCxnSpPr>
          <p:nvPr/>
        </p:nvCxnSpPr>
        <p:spPr>
          <a:xfrm rot="5400000">
            <a:off x="3390120" y="2809800"/>
            <a:ext cx="637200" cy="1154880"/>
          </a:xfrm>
          <a:prstGeom prst="bentConnector3">
            <a:avLst>
              <a:gd name="adj1" fmla="val 49858"/>
            </a:avLst>
          </a:prstGeom>
          <a:ln w="5076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3" idx="2"/>
            <a:endCxn id="145" idx="0"/>
          </p:cNvCxnSpPr>
          <p:nvPr/>
        </p:nvCxnSpPr>
        <p:spPr>
          <a:xfrm flipH="1" rot="16200000">
            <a:off x="4506840" y="2846880"/>
            <a:ext cx="637200" cy="1080360"/>
          </a:xfrm>
          <a:prstGeom prst="bentConnector3">
            <a:avLst>
              <a:gd name="adj1" fmla="val 49858"/>
            </a:avLst>
          </a:prstGeom>
          <a:ln w="50760">
            <a:solidFill>
              <a:srgbClr val="ffff99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133800" y="4724280"/>
            <a:ext cx="0" cy="43200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92720" y="4724280"/>
            <a:ext cx="0" cy="43200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268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ergence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6" idx="1"/>
            <a:endCxn id="144" idx="1"/>
          </p:cNvCxnSpPr>
          <p:nvPr/>
        </p:nvCxnSpPr>
        <p:spPr>
          <a:xfrm flipH="1" rot="10800000">
            <a:off x="2052360" y="4209480"/>
            <a:ext cx="2160" cy="1451520"/>
          </a:xfrm>
          <a:prstGeom prst="bentConnector3">
            <a:avLst>
              <a:gd name="adj1" fmla="val -83900000"/>
            </a:avLst>
          </a:prstGeom>
          <a:ln w="50760">
            <a:solidFill>
              <a:srgbClr val="ffff99"/>
            </a:solidFill>
            <a:prstDash val="sysDot"/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84360" y="3500280"/>
            <a:ext cx="12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arse co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444720" y="4940280"/>
            <a:ext cx="360360" cy="358920"/>
          </a:xfrm>
          <a:prstGeom prst="line">
            <a:avLst/>
          </a:prstGeom>
          <a:ln w="50760">
            <a:solidFill>
              <a:srgbClr val="ff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444720" y="5948280"/>
            <a:ext cx="360360" cy="333360"/>
          </a:xfrm>
          <a:prstGeom prst="line">
            <a:avLst/>
          </a:prstGeom>
          <a:ln w="50760">
            <a:solidFill>
              <a:srgbClr val="ff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444720" y="5630760"/>
            <a:ext cx="360360" cy="0"/>
          </a:xfrm>
          <a:prstGeom prst="line">
            <a:avLst/>
          </a:prstGeom>
          <a:ln w="50760">
            <a:solidFill>
              <a:srgbClr val="ff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05440" y="4726080"/>
            <a:ext cx="2195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c5c5c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bject recogn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05440" y="6021360"/>
            <a:ext cx="2195640" cy="50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c5c5c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each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05440" y="5372280"/>
            <a:ext cx="2195640" cy="50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5c5c5c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tten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-606" t="16136" r="2305" b="26894"/>
          <a:stretch/>
        </p:blipFill>
        <p:spPr>
          <a:xfrm>
            <a:off x="3276720" y="1254240"/>
            <a:ext cx="201456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onvolutional Networks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341360"/>
            <a:ext cx="5327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00"/>
                </a:solidFill>
                <a:latin typeface="Tahoma"/>
              </a:rPr>
              <a:t>LeNet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5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sed in digits/character recogn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6060960"/>
            <a:ext cx="83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Y. LeCun, L. Bottou, Y. Bengio, and P. Haffner. </a:t>
            </a: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Gradient-based learning applied to document recogni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Proceedings of the IEE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 November 1998.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796000" y="1341360"/>
            <a:ext cx="3108240" cy="1943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356000" y="3716280"/>
            <a:ext cx="4516560" cy="1692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24000" y="3789360"/>
            <a:ext cx="3743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00"/>
                </a:solidFill>
                <a:latin typeface="Tahoma"/>
              </a:rPr>
              <a:t>LeNet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7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sed in generic object recogn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0:07:13Z</dcterms:created>
  <dc:creator>Patrick De Maziиre</dc:creator>
  <dc:description/>
  <dc:language>en-US</dc:language>
  <cp:lastModifiedBy>Nikolay Chumerin</cp:lastModifiedBy>
  <dcterms:modified xsi:type="dcterms:W3CDTF">2008-03-06T12:46:14Z</dcterms:modified>
  <cp:revision>305</cp:revision>
  <dc:subject/>
  <dc:title>Feature Extraction Using Mutual Informatin Maximization</dc:title>
</cp:coreProperties>
</file>